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6493-BC23-4E32-9BF4-3F93B73C7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52F1-3C75-4920-8F64-39EBF484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C20F-732C-47B5-AB30-E5255D4FA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5F2D-E600-4E80-95F8-8D524F87A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9BC7-DBC8-410C-91FE-4B649604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FD7A-79FF-47C3-A060-EED1A185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8672-6DB0-49A3-A503-E13C9B8A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53A8-EA74-4A54-BF32-68336E83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87EA-501A-40CB-8E4A-08D56531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77EF-EDF4-4E2E-B65F-D1B1894D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DD61-AD08-407F-9F38-2D067A3D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0D3E-AEB1-44E4-860F-2358E2E4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5040-E807-4A83-86FC-9ADA042C3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3480" y="-27000"/>
            <a:ext cx="921384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6668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Arial"/>
              </a:rPr>
              <a:t>О, Боже наш, </a:t>
            </a:r>
            <a:br>
              <a:rPr sz="6000"/>
            </a:br>
            <a:r>
              <a:rPr b="1" lang="bg-BG" sz="6000" spc="-1" strike="noStrike">
                <a:solidFill>
                  <a:srgbClr val="ffffff"/>
                </a:solidFill>
                <a:latin typeface="Arial"/>
              </a:rPr>
              <a:t>Ти, Който сам Си любов, бъди със нас</a:t>
            </a:r>
            <a:br>
              <a:rPr sz="6000"/>
            </a:br>
            <a:r>
              <a:rPr b="1" lang="bg-BG" sz="6000" spc="-1" strike="noStrike">
                <a:solidFill>
                  <a:srgbClr val="ffffff"/>
                </a:solidFill>
                <a:latin typeface="Arial"/>
              </a:rPr>
              <a:t> и пази и благослов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53272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28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3438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Arial"/>
              </a:rPr>
              <a:t>Исусе наш,</a:t>
            </a:r>
            <a:br>
              <a:rPr sz="6000"/>
            </a:br>
            <a:r>
              <a:rPr b="1" lang="bg-BG" sz="6000" spc="-1" strike="noStrike">
                <a:solidFill>
                  <a:srgbClr val="ffffff"/>
                </a:solidFill>
                <a:latin typeface="Arial"/>
              </a:rPr>
              <a:t>Ти извор си на благодат, бъди със нас </a:t>
            </a:r>
            <a:br>
              <a:rPr sz="6000"/>
            </a:br>
            <a:r>
              <a:rPr b="1" lang="bg-BG" sz="6000" spc="-1" strike="noStrike">
                <a:solidFill>
                  <a:srgbClr val="ffffff"/>
                </a:solidFill>
                <a:latin typeface="Arial"/>
              </a:rPr>
              <a:t>и пази и благослов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6000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81000"/>
            <a:ext cx="9144000" cy="7020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396720" y="26668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Arial"/>
              </a:rPr>
              <a:t>О, Святи Дух,</a:t>
            </a:r>
            <a:br>
              <a:rPr sz="6000"/>
            </a:br>
            <a:r>
              <a:rPr b="1" lang="bg-BG" sz="6000" spc="-1" strike="noStrike">
                <a:solidFill>
                  <a:srgbClr val="ffffff"/>
                </a:solidFill>
                <a:latin typeface="Arial"/>
              </a:rPr>
              <a:t>Ти наш утешител и дар, бъди със нас</a:t>
            </a:r>
            <a:br>
              <a:rPr sz="6000"/>
            </a:br>
            <a:r>
              <a:rPr b="1" lang="bg-BG" sz="6000" spc="-1" strike="noStrike">
                <a:solidFill>
                  <a:srgbClr val="ffffff"/>
                </a:solidFill>
                <a:latin typeface="Arial"/>
              </a:rPr>
              <a:t> и пази и благослов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6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20:48:32Z</dcterms:created>
  <dc:creator>TrifonTrifonow</dc:creator>
  <dc:description/>
  <dc:language>en-US</dc:language>
  <cp:lastModifiedBy>TrifonTrifonow</cp:lastModifiedBy>
  <dcterms:modified xsi:type="dcterms:W3CDTF">2005-12-15T20:48:54Z</dcterms:modified>
  <cp:revision>1</cp:revision>
  <dc:subject/>
  <dc:title>Slide 1</dc:title>
</cp:coreProperties>
</file>